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7F1-11C9-4945-B57D-A56B2766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052-BFDE-454B-B7B5-554D328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282-C0EE-4B14-8652-0B1BCFCA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A89-F487-4E04-822B-9582CC3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40BD-0A8D-425C-B7AC-8C030630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4FE-11D2-4E82-9282-2B11BAC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27B4-4AF6-4054-84DB-5653697E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148-C7B3-480A-8E4A-38532EA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918-ECC1-47B4-B2CC-6DEB80D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3C68-3301-4BA3-92FB-0A909908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7C57-CBE2-4710-8B67-2B39B37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784-E2E1-4DAD-AC43-0DFA842E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9552-6F37-49DB-89E5-63AE3B7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FF7F-EF7C-48FC-BC0C-FE806D2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29FE-EB1A-465F-B361-BBF54276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361-39C3-44B5-B520-7B79101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22A-FB91-40CF-AF5E-73BC32D1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3FD3-389B-4DFE-8BB8-A0C434F6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8E99-7C9F-483B-B3B5-8D57C05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1CAD-B0F8-45DB-B810-21877C6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E907-F756-451E-827E-35C805A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E497-53AC-4E87-BB8A-61ADC62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9C0-B3C4-4399-B0A8-49F1492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B570-87BF-49FA-814A-58F9261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1AB3-76C7-414D-83E9-8CAF239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050D-2E43-463E-A32D-28E60BA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8697-AB11-4473-B480-05ACC05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74DE-0819-44BF-B5E2-B4A9D7A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70B8-7BFB-4349-8EBE-C1C8B4AB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BB05-F455-42F0-89F8-19D21307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FFD76-DECC-462B-B211-4A44F5BF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A4DBE-FC6F-4B14-80FF-9D3B7289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3A799-9415-4101-AE72-222557FD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64C-B756-4210-A422-404B590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1B965-4CFC-4A4B-A3AB-9801A025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9C70C-3451-4077-A7EB-F544D655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599A7-A8BB-4FD2-A6D7-47FCA23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D3B4C-91F8-4DCC-9D32-F28671E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BC5D6-8AB2-4A2F-AB72-8AB175B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9120A-C2C5-4727-BA21-0ABCD4E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9A4EA-FE88-4282-8157-F6197FA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FCF3C-C07F-4463-B499-ECEBE3BB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FEC90-2EFE-4FD6-814B-E69E0AE7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1296C-E1EF-4026-A9E9-AA8A19AD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9F1-C0C7-4C4F-AA30-D6B87CA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366D4-E37C-458C-BE32-42F5638E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1603C-D049-4F2E-A924-C1EDD73C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5D4DC-A8E1-40BF-8607-136F9BD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6F5CE-FD2D-4110-8502-133B7A50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28296-ECEE-4EB9-8A8D-DA398BAA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2BBCF-0CE6-4B0B-B478-C7CB5D8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0D3BC-5F82-4BDD-9F52-C97239A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9F85C-142F-48D9-A29C-6FC98AC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58B1B-801B-4BEF-BA29-ACC0344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4994D-36C0-4AFB-85CE-788FCB2D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BE7-E62E-4331-A79D-E44761B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46886-3FE5-4AF9-9C12-B8B6B353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DE73-686B-4A9A-95AC-EDAC8793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E632-239F-4C87-A14E-44AB9DE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EF91-7603-4B0C-87B8-1090A992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E3CE-09AC-48DE-B4ED-8A3B91C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7163A-3E3E-4875-BFF1-457D86C6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C35E-AADA-4EDA-BB8A-35EF748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BEF0-26DE-445D-953D-E5E92E6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AAC2-C3CB-4FAA-8E27-B07C01A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8D11-782B-4316-903B-5A35EB2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D77-D2D9-4781-9A7A-0F32A70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39A3-ED7E-4078-8BD7-75048E9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F46BA-432E-4F06-BE19-AD610E07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1408-4A21-4405-B67A-88395575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010-1CF7-47D2-9E5E-C4D2F8B5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2E2-8024-4030-8E0A-F8E1811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DF5-398B-4DB1-A695-683C7FA8BF7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5C62-8690-4041-92EF-7072AE05F74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E01-7443-4F07-8F49-AB660A400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655-773F-47A1-9DAC-3A4BA8825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7E6-50C8-436A-90A4-4E2496AA15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82B-573B-4FCF-A93D-F5A287291B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ran ci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i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muy grande y magni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ran Apertur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cine tiene comod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utac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muy bueno para largo pelicula. L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leto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es 50 por ciento de descuento. La boletos es cinco dolores. Comedas es uno dolores. No esperar en la cola es muy rapid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</a:t>
            </a: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pelicul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,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 noche la pelicula e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er he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ost b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 Johnny Depp es en dos pelicu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licula 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bla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English y en vers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igin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</a:t>
            </a: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pantalla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antalla es muy claro no es bajo es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us de la pelicula usted puede dejar en tax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37:23Z</dcterms:created>
  <dc:creator>chernoffale</dc:creator>
  <dc:description/>
  <dc:language>en-US</dc:language>
  <cp:lastModifiedBy>chernoffale</cp:lastModifiedBy>
  <dcterms:modified xsi:type="dcterms:W3CDTF">2011-12-23T14:53:22Z</dcterms:modified>
  <cp:revision>8</cp:revision>
  <dc:subject/>
  <dc:title>El Gran cine</dc:title>
</cp:coreProperties>
</file>